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1FB-571F-4031-B945-23B5F117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E16F-69E6-401C-8E79-BCC6CD1C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1B9-DD1E-41F9-A5F1-2224336E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F3CD-05FA-49CF-BCE8-F9194491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8AB-BCF1-4E2C-BBCB-13833E8A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B7A-FE6E-4A5A-B057-B8592231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F38-2167-45A4-813E-C4650FE1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EAD-A276-4127-81F8-3EDA51DD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9F3-B361-431D-B885-CFC92CA2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82B-1CDC-48F5-942E-6B0A225E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D38-90C3-4693-AADF-FE3C98E6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B52-803E-42C9-9874-49665B5C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eb5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2CC2-F638-44AE-8774-983FCD522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inandbakeit.com/wp-content/uploads/2009/03/snickers-king-size.jpg&amp;imgrefurl=http://grinandbakeit.com/candy-bar-cookie-showdown-snickers-cookies-vs-butterfingers-cookies&amp;usg=___sCvv5MjoH1BG82B6oIK5O27-Ds=&amp;h=300&amp;w=400&amp;sz=25&amp;hl=en&amp;start=38&amp;um=1&amp;itbs=1&amp;tbnid=TiHgWrElq2S1OM:&amp;tbnh=93&amp;tbnw=124&amp;prev=/images%3Fq%3DSnickers%26start%3D36%26um%3D1%26hl%3Den%26safe%3Dactive%26sa%3DN%26rls%3Dcom.microsoft:en-us%26ndsp%3D18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smartcanucks.ca/wp-content/uploads/2010/03/skittles.jpg&amp;imgrefurl=http://smartcanucks.ca/skittles-and-starburst-buy-one-get-one-printable-canadian-coupons-just-become-a-facebook-fan/&amp;usg=__w-aTulW2r1B20TEq0JOdNzO1vg0=&amp;h=316&amp;w=498&amp;sz=29&amp;hl=en&amp;start=16&amp;um=1&amp;itbs=1&amp;tbnid=B_91WJdaT2OrnM:&amp;tbnh=82&amp;tbnw=130&amp;prev=/images%3Fq%3DSkittles%26um%3D1%26hl%3Den%26safe%3Dactive%26rls%3Dcom.microsoft:en-us%26tbs%3Disch:1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eb5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What candy do you like?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123720"/>
            <a:ext cx="6400800" cy="3505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ave you ever wondered if you like different candies as you grow up? Well I have. I’m doing my experiment on “What effect does age have on what candy you like.”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eb5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y problem that I am experimenting on is “What effect does age have on what candy you like?” 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eb5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y hypothesis is that the little kids, at the grade school, will like the sweeter more fruitier candy like Skittles. The grown up people will like the chocolate more. 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eb5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Pen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Paper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 Kindergarteners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 First Graders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 Third Graders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 Fourth Graders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 Seventh Graders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  Eighth Graders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 Teachers 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eb5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Gather materials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and out survey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nstruct how to take survey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ollect survey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ally survey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eb5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Grade School Kids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kittles= 4 kids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ese’s= 5 kids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nickers= 3 kids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eenagers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kittles= 0 people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ese’s= 3 people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nickers= 3 people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Adults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kittles= 0 people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ese’s= 2 people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nickers= 1 person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396400">
            <a:off x="990720" y="1980720"/>
            <a:ext cx="1638360" cy="1228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850800">
            <a:off x="6400800" y="3200400"/>
            <a:ext cx="1847880" cy="116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 rot="382200">
            <a:off x="762120" y="4495680"/>
            <a:ext cx="222876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eb5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y hypothesis was incorrect because more grade school kids enjoy Reese’s more than Skittles.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TERLING  USD376</cp:lastModifiedBy>
  <cp:lastPrinted>2010-04-30T14:02:56Z</cp:lastPrinted>
  <dcterms:modified xsi:type="dcterms:W3CDTF">2010-04-30T14:04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